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C33-D3F3-434B-B840-8722A2D9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993-3FE4-4D6F-9A7F-7CCB382B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8C26-DCF6-465B-AEA7-27C5AD57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5120-FFB9-4189-8AB8-ADD14BE2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C8FD-37C3-45BA-8639-6EC8834A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6201-B06F-4CAB-B924-11FA683A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9878-FC6F-4151-9BE6-18E0CF71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7A6-7C29-4F2A-A3EB-DC22A638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04E1-627D-46DC-8712-E1BD2EE3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2F8C-46A0-47A9-B491-DA902AF2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ECD-79E6-492D-9762-8D9526C3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F71E-EAEA-48BC-B40D-3BD92618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E86B-B0A8-401E-8896-B7D94E89FD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юджет 2016 г. МО г.п. Печен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571680" y="1500120"/>
            <a:ext cx="7619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Диаграмма 1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2286000" y="785880"/>
            <a:ext cx="49291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ходы МО г.п. Печенга в сравне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Диаграмма 1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1643040" y="785880"/>
            <a:ext cx="65721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ходы бюджета МО г.п. Печенга в сравнении с 2015 год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extBox 1" descr=""/>
          <p:cNvPicPr/>
          <p:nvPr/>
        </p:nvPicPr>
        <p:blipFill>
          <a:blip r:embed="rId1"/>
          <a:stretch/>
        </p:blipFill>
        <p:spPr>
          <a:xfrm>
            <a:off x="1554120" y="324000"/>
            <a:ext cx="6681960" cy="419040"/>
          </a:xfrm>
          <a:prstGeom prst="rect">
            <a:avLst/>
          </a:prstGeom>
          <a:ln w="0">
            <a:noFill/>
          </a:ln>
        </p:spPr>
      </p:pic>
      <p:pic>
        <p:nvPicPr>
          <p:cNvPr id="48" name="Диаграмма 2" descr=""/>
          <p:cNvPicPr/>
          <p:nvPr/>
        </p:nvPicPr>
        <p:blipFill>
          <a:blip r:embed="rId2"/>
          <a:stretch/>
        </p:blipFill>
        <p:spPr>
          <a:xfrm>
            <a:off x="642960" y="1143000"/>
            <a:ext cx="8215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xtBox 1" descr=""/>
          <p:cNvPicPr/>
          <p:nvPr/>
        </p:nvPicPr>
        <p:blipFill>
          <a:blip r:embed="rId1"/>
          <a:stretch/>
        </p:blipFill>
        <p:spPr>
          <a:xfrm>
            <a:off x="2498760" y="822240"/>
            <a:ext cx="4017960" cy="420840"/>
          </a:xfrm>
          <a:prstGeom prst="rect">
            <a:avLst/>
          </a:prstGeom>
          <a:ln w="0">
            <a:noFill/>
          </a:ln>
        </p:spPr>
      </p:pic>
      <p:pic>
        <p:nvPicPr>
          <p:cNvPr id="50" name="Диаграмма 2" descr=""/>
          <p:cNvPicPr/>
          <p:nvPr/>
        </p:nvPicPr>
        <p:blipFill>
          <a:blip r:embed="rId2"/>
          <a:stretch/>
        </p:blipFill>
        <p:spPr>
          <a:xfrm>
            <a:off x="642960" y="1397160"/>
            <a:ext cx="792972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06:41:19Z</dcterms:created>
  <dc:creator>Начальник ФИНО</dc:creator>
  <dc:description/>
  <dc:language>en-US</dc:language>
  <cp:lastModifiedBy>Начальник ФИНО</cp:lastModifiedBy>
  <dcterms:modified xsi:type="dcterms:W3CDTF">2018-10-31T07:12:23Z</dcterms:modified>
  <cp:revision>19</cp:revision>
  <dc:subject/>
  <dc:title>Бюджет 2016 г. МО г.п. Печенга</dc:title>
</cp:coreProperties>
</file>